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54272-E7C7-4139-A77E-4075CC085B6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2EED7-729F-4393-8CBA-E46E1839E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BBE57-D492-4E5D-BCBF-C5D7691FC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D90D1-F024-4C01-BCA9-886059CB0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03B9E-293D-4771-8B36-5EB901732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20E17-5765-4B51-985B-4C9DB2B7E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376F9-F367-4D1E-9CBC-88AE56FA0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3D0E3-102E-4CB5-8990-46A22C280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8DC0B-BE76-43B5-835E-945D2B41A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B6E3D-C268-41EA-9909-BDFF63FE4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E4ADB-240E-4C02-990F-0E0822BF6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962E1-4D48-4F3B-9B20-E6BD59E5D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04486-A402-4CE1-BF51-17E8E71A6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DD40E-1009-41B0-B077-667D1BEE8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73EF0-EAE3-49F1-AD79-CFB9AA3E7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2B180-E9BB-4BB3-9871-04AF81673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A2233-9539-4019-8EB2-310D60399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CA04F-D5B8-415A-B7D2-C27E8575D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B8DC9-81D8-4221-A975-82C32321B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0BDB1-486D-453C-91F5-BC427F3D7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A0476-9657-4D51-80C9-8D4A9D7CF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4B4E9-2B55-4C5C-995E-ECD0891F8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6CF9D-B542-4FE6-A471-B80B87C78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01348-1565-4BD8-9E52-E20AC6840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02B8E-148C-4892-AACC-5F9E70CA4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6FDF1-7A4F-44CE-9719-A34EDA2D76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BA77D47-2488-4A5F-B89E-AEFE6D9BCAF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EB0AF60-610E-4F46-84F2-D15B55504E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DFA965C-220B-4DE0-9950-419CC8CE57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2BAC436-57D7-4151-A66F-1CA509BD82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6F397B3-FB53-41E6-A451-D50C08DACB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2F02227-2DE1-43C0-A017-C7C492C10F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C37976E-4E3B-4013-B5EA-AAB68D2B45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3403F81-932A-4A1A-8691-77130CD6CF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F768DA3-7AEA-4A00-9BCE-76DFBA21F6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19A38EB-1E7B-417C-9EA4-8256F25F0AC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07463BE-83CA-4DFB-8A37-2731827FC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ABB14CC-AC27-4B10-9FE9-0C646169A2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4576A06-4F93-4F37-A534-5F2B2B6851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8F5B17D-D6DC-48A3-A901-C17CFED4F1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0D086C0-6A4D-41F7-81AC-88343F4D4B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94FE250-B818-4641-9599-84866040D3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A8E6367-3B65-444E-83C9-32CC621154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CD24C49-7F66-4EDD-B9D5-E03CD58CB2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311D56F-A406-41CD-AD0D-A0108DC805A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95C7814-A937-4916-91D6-0C78739261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CF15053-23A5-4BC2-9881-496617767C9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C6944FF-D14B-4698-A3E3-00D32ECAB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0D925D5-EE9C-403F-B4FB-979C863632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9C4FD25-9DD9-4681-AD7B-EB9659B922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362F4CF-D8BC-4FF4-A1E5-7D3C0F4605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936551C-7C92-44F7-B55E-A1C6636E95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28DD308-DEAC-4FFF-8AA9-BC8C6DDB2D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D47A95B-A2E7-4C09-9C1D-11AF5B91C2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82A5370-65D0-44DE-B03A-55B30588862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1AD7A22-F7F7-4AF2-B607-CE98D922E5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BF64894-1175-44D5-8771-9F6D7A0668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FAA965D-D47C-426E-AAF0-472DDAF088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0A1356E-DE71-42AA-823C-CF3D1FB15E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CFD126-995F-4AF1-A922-79B579B2706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F3267CE-E1D5-4FF2-9307-E1CC60F8605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B5EC965-C126-490B-936E-9ECB6264B3A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D7B9AF8-D684-4351-8BAB-6B2BCEA1810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AA62108-35CA-4C9E-A10F-E66DCA76720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E1790DB-3B02-44B9-A7ED-AC937F92AD0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47C9E4A-C061-48BB-A480-AD1414AA6D1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110516D-6A64-462B-9632-38618CBEB22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494EB5E-E790-4FCC-B925-3818B2DACF0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1E0F41C-49CD-443F-AE7E-6C24C7A9F0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52668E4-7E3B-44BD-ADF1-98340FE50B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195DDAA-3895-4219-BDA6-21ABD7F29C0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0C371A1-9F33-429C-A3CB-D575D04422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A25E4D5-B404-452B-A9BC-0362B9520F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BA1694A-A8E8-4418-BF8B-D7BA32B188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4F309D2-7D9F-452A-905B-1EDDC4ADFA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448E78B-B138-4A99-8C77-952707D037A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39FEFC-AFA1-4E17-A615-08FF1612726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2CDDFA3-5078-4AEA-8931-E78D611A7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BB574EB-501E-46FC-BF15-AA9E93633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1CA63CE-39FA-4403-AF83-F1162910D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A8F35C6-011C-4D3D-8A08-31203E5B61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13ED99-DDE2-4AC5-BCDF-1A92FB16AF8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B240433-6A8A-4A07-99FE-7909A99750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B81A020-BC1B-4B28-84A6-0047C7D018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DACCA5D-4586-4478-8F2D-21141ABA4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A33C7BD-467A-4563-9D17-4617B8091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C0FCCE5-35F3-4A63-9016-DB3D7AB412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C447688F-BA75-4B87-BB40-D92D36604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552306D-8852-465E-8A23-75766BEBDED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1BE7E18-A410-489F-BE6A-67A70B7B60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B6CA82A-9367-4283-9918-450403615C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01D5122-8CFB-4F60-A062-F2D939E013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C62D796-5980-431E-97C4-72A9F0F378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63C69F0-746B-4484-9AAC-4612605E4A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474A04-7AB9-4ADF-B156-437D10A617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637D45A-9E60-435E-9F86-D672486BF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5B87B8B-8D09-419F-A4BB-08778A1114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E048251-783D-4FFF-AFE5-5452C2BC3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3CFF66C-A096-4DF9-9E4C-0455FBDD46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695855-405F-431F-9FEF-180B0CC854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F97D94-1F16-4ABB-9270-8186C28462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95DADE-572B-49AA-91DB-5A0FB858AD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41B1437-42AD-4E5E-8CC5-9FBA6F5512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473349-8FC9-4B55-BD49-C1A59AB075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FDFF880-7A30-4FB4-9628-9438164619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BA4103B-8CF5-4850-82A5-7C18931C53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D59F777-D448-4FE4-8EE0-7AFD3B75F6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325311A-F903-49D1-BBA7-2B008365A5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7AF8F68-8CED-443B-B878-2ED3A8D89F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8EAA953-1C2B-42E9-B3A0-D245A34137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CABD40B-A2C8-4A1D-B6DD-F5F4BD3953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A16F1AF-0E66-44EB-8473-9B1D437299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AC9C6-166A-4169-851E-B29430B0DE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58F21CC-1241-4B59-8A0B-40E852A74C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D8CE197-5178-48F5-B402-F522A97A40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40D742B-67CA-4F6F-A6C7-D39F6DBE29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459FEF9-05EB-4E11-AD1C-F8DB6F2CE86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0CABAFA-A2AC-4D03-BAD5-8F88E97592E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9EB693D-ADB2-4FB8-9A14-FE270FFCF5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F9D8618-2993-497E-9504-C4CB7CDA4D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37A8DDD-4DC4-4703-B95B-D663520797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5D383A3-4ED9-43F0-8202-755362E3B57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730E465-E4A6-40D1-B33A-A330A6393FA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F420C75-8F03-46E7-A909-5FE6A7FD03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DB0E3A6-700E-42C2-A2C9-8652AA6713F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C0CEA5B-A297-4FEC-A7EB-EF99DFADF0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175E639-49C6-4E38-80D6-61E2EB5D3D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327327B-69D8-40CA-8039-A3569ECE664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D0AE259-7F8B-43EC-85C9-ABC4890113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0153B6C-D5B2-4445-BB42-1A9C7AEDDA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DF345C7-98BC-49DC-96B1-546851E034A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E61B218-F1DA-4489-B2E2-E1C64D9FEFE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3BFC1FC-BF34-42D2-B430-E31A91F6F1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347BF74-4B50-4143-B5E9-10EB496B5B7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C433EEA-3E09-4309-9A08-1DDEA927CF9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FBE7BFA-59D5-4FD0-99D2-DE6A3B56E8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2C47A6C-66D7-421C-9D29-22F5A058F8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176C2D3-95AF-4C5D-801C-175F0A1E1F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6AEF84A-7812-4341-A030-EFA951C679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D6F3C77-3383-4B6A-A6E2-5473E0FE703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DE82B14-A16D-4AA4-BCD8-C29B6A30A5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FC90BC6-5485-4298-99D8-21C41BFCD5B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4B5441B-C02C-4FE9-9163-C28FC8D649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757CF28-322D-4610-9CB4-E1CBA26CF0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83260261-14D2-4B9C-B110-997223E2C4D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B73192C-96DF-49AE-B1AF-DC6C4D22E1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1365C3C-DA5F-4964-8604-D29F973A94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6011579-9721-47C3-B794-CE810627F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C75E517-26B5-4DF5-B0AE-FFD9575AC9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7F78853-D412-40C5-A6C0-F3205E56BA3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ACB0C96-38A4-466D-9521-CB2E477279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FC06BA9-D2B8-4160-8635-5004AFFD03D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36F59FB-A0ED-4197-B0E7-426D85678A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5885C3E-89DC-444C-A55D-3BDED4A79D9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0C5DE5F-F314-4DD3-9CAC-67C2D257BA6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93E691E-709F-4903-BA8D-59F6E7CCCC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D512038A-F142-4F37-B8A4-BF25605BFC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4EBB0F9-8F66-4136-A606-2C35DC5355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C6CFA65-C02D-4D2A-B56B-14BE43A0C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A52F333-76F5-4EA8-9E0E-6D9D79B25F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5C36979-1CE3-4B3B-9C84-8A40B3D1CA3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8545268-A1C5-4484-95D0-F208FADC67F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0ABEC56-A6F0-41F2-BC07-85310ACDBB4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17CFBB1-A4A5-4B30-AD8D-0C7F2E02842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FABFFD1-8219-401C-AE84-75CBBFC4934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2049529-B1EC-4AD4-8E51-F019C0A417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2193A00-C895-4167-9F70-930E144F34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CF411E4-63EF-418A-955B-BDFAC5352E3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5FFD53E-DFB5-466B-A8AE-AD231D02CE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562E6548-6F1C-4D8E-BAA7-6DEFCA92B0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A1865A8-E5B4-4445-97BE-47D4BC74A92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29417B7-D1CC-4857-962C-533E039BB29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C76D8A4-9BF3-4C84-B6A9-1832A7B564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25330B8-6E96-4B41-9AB3-33A7B7DC67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872E15B-73E4-48EA-B053-E19C2525B79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3EEC1B4-D18C-4D1A-A8C0-81E34FD35A8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015A3A0-9E37-4F24-AC5D-9829DE9AA0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3AB7418-1A9C-48BA-9344-E7E306F5893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82ACE83-5F73-4ABB-99E1-799016DE34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D839D9F-01DA-4096-A8CE-3B69EDA880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C7CF0AC-F8CE-4D30-9C21-79D9F7E743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5C614-1F7D-4F5B-A8B7-2F4C224B72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3015D-6E60-405D-A96C-AB432DE5A4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BFF8D-F421-4A71-8305-0AAE5A4603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564A6-C5AF-418C-8E1F-B838AED551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CC2EF-3C5A-476D-A5C5-B2F32591AB9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B240D-67E1-4728-9AC6-2B96171B27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88CA4-C61F-437A-84FC-739E39BAEF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A69FE-FB54-4BEF-B97A-1EA672A33E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945DE-03E1-450C-AEC4-9C135F4C46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D083B-3ED6-4367-A614-DBCD7F736A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07A3A-D4A0-4714-8A91-3DD2306F73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864C2-A2B3-4849-A829-A6FDE61AA4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4DEEB6-CE7D-4494-A057-5501901AD2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611280" y="1407960"/>
            <a:ext cx="820872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193760"/>
            <a:ext cx="8208720" cy="4830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611280" y="1469880"/>
            <a:ext cx="8208720" cy="4278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839960"/>
            <a:ext cx="8208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66" name="" descr=""/>
          <p:cNvPicPr/>
          <p:nvPr/>
        </p:nvPicPr>
        <p:blipFill>
          <a:blip r:embed="rId1"/>
          <a:stretch/>
        </p:blipFill>
        <p:spPr>
          <a:xfrm>
            <a:off x="0" y="0"/>
            <a:ext cx="9144000" cy="1368360"/>
          </a:xfrm>
          <a:prstGeom prst="rect">
            <a:avLst/>
          </a:prstGeom>
          <a:ln w="0">
            <a:noFill/>
          </a:ln>
        </p:spPr>
      </p:pic>
      <p:pic>
        <p:nvPicPr>
          <p:cNvPr id="767" name="" descr=""/>
          <p:cNvPicPr/>
          <p:nvPr/>
        </p:nvPicPr>
        <p:blipFill>
          <a:blip r:embed="rId2"/>
          <a:stretch/>
        </p:blipFill>
        <p:spPr>
          <a:xfrm>
            <a:off x="1258920" y="2060640"/>
            <a:ext cx="1297080" cy="1528560"/>
          </a:xfrm>
          <a:prstGeom prst="rect">
            <a:avLst/>
          </a:prstGeom>
          <a:ln w="0">
            <a:noFill/>
          </a:ln>
        </p:spPr>
      </p:pic>
      <p:pic>
        <p:nvPicPr>
          <p:cNvPr id="768" name="" descr=""/>
          <p:cNvPicPr/>
          <p:nvPr/>
        </p:nvPicPr>
        <p:blipFill>
          <a:blip r:embed="rId3"/>
          <a:stretch/>
        </p:blipFill>
        <p:spPr>
          <a:xfrm>
            <a:off x="6948360" y="1989000"/>
            <a:ext cx="1444680" cy="1573200"/>
          </a:xfrm>
          <a:prstGeom prst="rect">
            <a:avLst/>
          </a:prstGeom>
          <a:ln w="0">
            <a:noFill/>
          </a:ln>
        </p:spPr>
      </p:pic>
      <p:sp>
        <p:nvSpPr>
          <p:cNvPr id="769"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7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
        <p:nvSpPr>
          <p:cNvPr id="584"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395280" y="977760"/>
            <a:ext cx="8497800" cy="5262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250920" y="1407960"/>
            <a:ext cx="856908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611280" y="2054160"/>
            <a:ext cx="8208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21Z</dcterms:modified>
  <cp:revision>157</cp:revision>
  <dc:subject/>
  <dc:title>Παρουσίαση του PowerPoint</dc:title>
</cp:coreProperties>
</file>